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717B-EDAD-4BD0-805A-FDEB138DF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E9BF-C752-4A75-8FF1-F5EDEC9F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E783-BD64-4788-ABD4-935184496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DE8C-2FF1-458D-A71E-62121B20C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CC0F6-3005-4E9F-BFCD-400D0D13E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6914-9604-417E-8BD2-7B0BDCB0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B3E32-F186-489C-AD19-F3948DE3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4920-0272-42A2-A819-7562B24C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3A1D6-4642-45DF-A89B-C5B6622C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3D1D-820A-46DE-A97E-B8029982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EE6AC-C54B-43F6-8132-9C0AF587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EE08-A92C-47E6-BEE0-802722D2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FDC6-89FC-4F49-A2EB-0D4EB89F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6BA2-C924-4FEB-819E-5375BF10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B562-211C-4E67-B659-8FFB744A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7B2B-9EA8-44DE-91B1-B4CA203A2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C34D-445D-4B89-8F49-7C125B8CF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B06D-E48E-4FF9-A092-130ABA2C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7E87-CC00-4B5B-8E6E-7BE8D967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1A4D-1DDE-4E45-8E05-F7A7AC17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4872-01EA-45BA-A042-D5D96A4D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2511-124D-475B-B43D-13BF785B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B15F-9B75-446C-9D4C-01C1A782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8B92-81E6-46F9-B193-85851F89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25DD-7434-4369-8760-CF904D360A47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2F05-D29E-4EB1-852F-AEC2D4CFD4A5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0b854"/>
                </a:solidFill>
                <a:uFillTx/>
                <a:latin typeface="Agency FB"/>
              </a:rPr>
              <a:t>TEAMWORK SKILL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2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kills Employers Want Today!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By: Suzanna Smilesalo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4027320" y="2063880"/>
            <a:ext cx="3622680" cy="35636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ctively Participate in a Group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3920760"/>
            <a:ext cx="73864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mployers expect new hires to be able to work with people from diverse culture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254240" y="1598760"/>
            <a:ext cx="1641240" cy="21715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4567320" y="1598760"/>
            <a:ext cx="2538360" cy="21715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Know the Groups Rules and Value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very organization has specific rules and expectations for their employee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s as new hire, I must take the time to learn what the rules are so that I do not offend anyon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3200400" y="4267080"/>
            <a:ext cx="3025800" cy="21877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Listen to Other Group Member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026960" y="1598760"/>
            <a:ext cx="3622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hen others are talking I am no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 listen to what others have to say respectfull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1243080" y="3102120"/>
            <a:ext cx="1666800" cy="14904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Express Ideas to Other Group Member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026960" y="1598760"/>
            <a:ext cx="3622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4419720" cy="28875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Be Sensitive to Group Members Ideas and View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Be Willing to Compromise if Necessary to Accomplish a Goal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63160" y="1598760"/>
            <a:ext cx="3622680" cy="44971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026960" y="1598760"/>
            <a:ext cx="3622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Be a Leader, or, Follower to Best Accomplish the Goal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63160" y="1598760"/>
            <a:ext cx="3622680" cy="21715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63160" y="3920760"/>
            <a:ext cx="3622680" cy="21747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4026960" y="1598760"/>
            <a:ext cx="3622680" cy="44971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Work in Changing Settings and With People of Differing Background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63520" y="1598760"/>
            <a:ext cx="7386480" cy="217152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3920760"/>
            <a:ext cx="73864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8:47:40Z</dcterms:created>
  <dc:creator>Administrator</dc:creator>
  <dc:description/>
  <dc:language>en-US</dc:language>
  <cp:lastModifiedBy>Administrator</cp:lastModifiedBy>
  <dcterms:modified xsi:type="dcterms:W3CDTF">2009-11-24T19:18:20Z</dcterms:modified>
  <cp:revision>10</cp:revision>
  <dc:subject/>
  <dc:title>TEAMWORK SKILLS</dc:title>
</cp:coreProperties>
</file>