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44AF-E05C-4C17-95B5-EFE12CB6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E0BC-BE68-4B02-BB68-E987C6E7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39A8-E750-4B7C-B42B-222A6952E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4CE5-132D-41C7-84D1-5565E1FC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204F-8B64-444A-A2B1-C3053EDD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3331-BA31-4244-8BA5-81CAF541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F93E-862C-4039-BFFF-F67BF0C6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C84B-EEB4-4D17-A435-2A00AC5E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1C65-0DE1-42BA-96B8-C7A489E5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2673-0072-4617-9593-F8E7A956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AD1F-26A2-41F0-8B04-669F7A18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A501-6447-4194-8602-32CDBA24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892F-B259-475C-B54C-43F67063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D83E-A03B-477F-A1E3-60B0D0F4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9833-5FCE-45BB-9C94-343C5E1E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78E8-3249-49F7-BF4A-9F471380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FEE6-AD55-416F-8CD6-33CA09B94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4A0D-B58C-4F95-967A-310AE0F4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C932-B160-4195-953E-468F5EF2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F7D8-3A36-4E2A-A1BE-B6449F44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D5F3-7A52-4C81-9BDF-EE72DA37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0E38-C603-43A5-A2B6-1E64532B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5360-44CC-48A1-9AD3-5E441773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B58F-E2FB-46D5-B194-E1518C83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BA94-5BE4-4A32-AD95-4691407793CD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FA93-D149-494A-9D84-8AAF137486EA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0b854"/>
                </a:solidFill>
                <a:uFillTx/>
                <a:latin typeface="Agency FB"/>
              </a:rPr>
              <a:t>TEAMWORK SKILL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2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kills Employers Want Today!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y: Suzanna Smilesalo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027320" y="2063880"/>
            <a:ext cx="3622680" cy="35636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ctively Participate in a Group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3920760"/>
            <a:ext cx="73864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mployers expect new hires to be able to work with people from diverse cultur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254240" y="1598760"/>
            <a:ext cx="1641240" cy="21715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567320" y="1598760"/>
            <a:ext cx="2538360" cy="21715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Know the Groups Rules and Value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very organization has specific rules and expectations for their employe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s as new hire, I must take the time to learn what the rules are so that I do not offend anyon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3200400" y="4267080"/>
            <a:ext cx="3025800" cy="21877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isten to Other Group Member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026960" y="1598760"/>
            <a:ext cx="3622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hen others are talking I am no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 listen to what others have to say respectfull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243080" y="3102120"/>
            <a:ext cx="1666800" cy="14904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Express Ideas to Other Group Member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026960" y="1598760"/>
            <a:ext cx="3622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4419720" cy="2887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Be Sensitive to Group Members Ideas and View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Be Willing to Compromise if Necessary to Accomplish a Goal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63160" y="1598760"/>
            <a:ext cx="3622680" cy="44971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026960" y="1598760"/>
            <a:ext cx="3622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Be a Leader, or, Follower to Best Accomplish the Goal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63160" y="1598760"/>
            <a:ext cx="3622680" cy="21715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63160" y="3920760"/>
            <a:ext cx="3622680" cy="21747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026960" y="1598760"/>
            <a:ext cx="3622680" cy="44971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Work in Changing Settings and With People of Differing Background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63520" y="1598760"/>
            <a:ext cx="7386480" cy="217152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3920760"/>
            <a:ext cx="73864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8:47:40Z</dcterms:created>
  <dc:creator>Administrator</dc:creator>
  <dc:description/>
  <dc:language>en-US</dc:language>
  <cp:lastModifiedBy>Administrator</cp:lastModifiedBy>
  <dcterms:modified xsi:type="dcterms:W3CDTF">2009-11-24T19:18:20Z</dcterms:modified>
  <cp:revision>10</cp:revision>
  <dc:subject/>
  <dc:title>TEAMWORK SKILLS</dc:title>
</cp:coreProperties>
</file>