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10.wmf" ContentType="image/x-wmf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68CA-3395-49C6-81CB-9AC3C738C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F7E0-910A-45E1-8A0A-7D9C6EDB4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D59B-52B5-4214-90FE-331AF8203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44C8-BE8B-480B-B795-E54F7A86D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FED28-4218-4E38-9F8D-CB4F5BDC9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32F50-FF8B-49F6-8D44-DBBDD25D9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4683C-438C-4C66-9E7D-3E4418247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6C0F5-B3E9-485D-8A19-BD91E7D02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A9309-2718-470E-80BB-768C15133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43D7E-8F5E-482F-8952-D91EF7417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C19C8-A9B4-4B6E-8830-13314269B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7370-0B20-4103-9CF9-D47859949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DE90C-D357-4B0A-9704-F904C4B7C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27484-9B46-4C2A-AD2D-1933CCED6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AD723-6471-4980-9836-F476212E6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489C8-3089-43C1-AA17-FC37CF980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8155E-5C08-46A3-9FCA-2F0E7CF7E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4D14-24F5-46F9-8E94-3E5C3619A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8204-8FE9-4DFF-AEBA-0DF106F11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1145-9FDD-4CA0-A164-0C6444D84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3BD9-BCF2-46BB-BD6A-E330F0202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C70E-80AC-427C-9EDB-02571D217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02D0-19CD-466F-A285-EC6CCAD7F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D7A7-0A7D-45E6-995C-4191AED3E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6427A-58EA-4A22-B33A-18F126A7B0CD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E9CD2-8348-4FF8-A4AF-8ADC9145A741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0b854"/>
                </a:solidFill>
                <a:uFillTx/>
                <a:latin typeface="Agency FB"/>
              </a:rPr>
              <a:t>TEAMWORK SKILL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226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kills Employers Want Today!!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By: Suzanna Smilesalot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4027320" y="2063880"/>
            <a:ext cx="3622680" cy="356364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Actively Participate in a Group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63520" y="3920760"/>
            <a:ext cx="738648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Employers expect new hires to be able to work with people from diverse cultures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1254240" y="1598760"/>
            <a:ext cx="1641240" cy="217152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4567320" y="1598760"/>
            <a:ext cx="2538360" cy="217152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Know the Groups Rules and Values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Every organization has specific rules and expectations for their employees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As as new hire, I must take the time to learn what the rules are so that I do not offend anyone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3"/>
          <a:stretch/>
        </p:blipFill>
        <p:spPr>
          <a:xfrm>
            <a:off x="3200400" y="4267080"/>
            <a:ext cx="3025800" cy="218772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Listen to Other Group Member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026960" y="1598760"/>
            <a:ext cx="36226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When others are talking I am not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I listen to what others have to say respectfully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1243080" y="3102120"/>
            <a:ext cx="1666800" cy="14904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Express Ideas to Other Group Members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026960" y="1598760"/>
            <a:ext cx="36226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457200" y="2743200"/>
            <a:ext cx="4419720" cy="288756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Be Sensitive to Group Members Ideas and Views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 advTm="3000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Be Willing to Compromise if Necessary to Accomplish a Goal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263160" y="1598760"/>
            <a:ext cx="3622680" cy="449712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026960" y="1598760"/>
            <a:ext cx="36226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 advTm="3000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Be a Leader, or, Follower to Best Accomplish the Goal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263160" y="1598760"/>
            <a:ext cx="3622680" cy="21715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263160" y="3920760"/>
            <a:ext cx="3622680" cy="217476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4026960" y="1598760"/>
            <a:ext cx="3622680" cy="449712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Work in Changing Settings and With People of Differing Backgrounds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263520" y="1598760"/>
            <a:ext cx="7386480" cy="217152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63520" y="3920760"/>
            <a:ext cx="738648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 advTm="300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3T18:47:40Z</dcterms:created>
  <dc:creator>Administrator</dc:creator>
  <dc:description/>
  <dc:language>en-US</dc:language>
  <cp:lastModifiedBy>Administrator</cp:lastModifiedBy>
  <dcterms:modified xsi:type="dcterms:W3CDTF">2009-11-24T19:18:20Z</dcterms:modified>
  <cp:revision>10</cp:revision>
  <dc:subject/>
  <dc:title>TEAMWORK SKILLS</dc:title>
</cp:coreProperties>
</file>