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11.jpeg" ContentType="image/jpeg"/>
  <Override PartName="/ppt/media/image7.jpeg" ContentType="image/jpeg"/>
  <Override PartName="/ppt/media/image10.wmf" ContentType="image/x-wmf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EA822-2961-441C-A960-923A0A820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1DD23-1CDA-420B-AB45-EF8BE583F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F0BA8-E126-480B-B22F-4A9929711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AAED6-3FE6-401C-8BAB-6FC47DD6C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61606-4963-4543-9BFC-FF9680261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9CFCB-115E-4F00-8F5B-2F868E27B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43E01-63A2-480A-B09C-3AD1F2A36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44A59-9C92-4AC2-8885-27E9275DA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5A44B-39DA-482A-A3D6-730AF29DC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E54A8-4AE2-420A-B45D-545BD96E3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A5FE7-5668-466C-8CF6-417E88305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13B7C-C287-4787-89D7-CB81ABDD4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14B37-E18D-426F-88E7-80BAD3ADD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52E47-7B96-4640-A607-BB7B390A1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C92EF-E1DD-42E2-A9E3-FA0A72463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F817B-2623-4C0A-85FB-94726B404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14C1F-31EF-4CEC-8B10-8A8857787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9A566-075B-48DB-B3E9-57F470EF8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EE185-0F31-4570-AF11-62290107F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AC48F-D8FD-4FA4-B5F2-DDB48F0A8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EDB95-85E9-4755-83A6-FEF83401D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6A60B-B779-4864-920F-0A417870A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4F346-C629-4C43-A666-4448AB626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F58C2-725A-4E45-B387-495A376AB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E4FED-ACF2-41DE-B1C5-E03EF6F0FE05}" type="slidenum">
              <a:rPr b="0" lang="en-US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81B62-5027-41ED-8FFA-8091070E6472}" type="slidenum">
              <a:rPr b="0" lang="en-US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f0b854"/>
                </a:solidFill>
                <a:uFillTx/>
                <a:latin typeface="Agency FB"/>
              </a:rPr>
              <a:t>TEAMWORK SKILLS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226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kills Employers Want Today!!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By: Suzanna Smilesalot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3"/>
          <a:stretch/>
        </p:blipFill>
        <p:spPr>
          <a:xfrm>
            <a:off x="4027320" y="2063880"/>
            <a:ext cx="3622680" cy="356364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Actively Participate in a Group: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63520" y="3920760"/>
            <a:ext cx="7386480" cy="21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Employers expect new hires to be able to work with people from diverse cultures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1254240" y="1598760"/>
            <a:ext cx="1641240" cy="217152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3"/>
          <a:stretch/>
        </p:blipFill>
        <p:spPr>
          <a:xfrm>
            <a:off x="4567320" y="1598760"/>
            <a:ext cx="2538360" cy="217152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Know the Groups Rules and Values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Every organization has specific rules and expectations for their employees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As as new hire, I must take the time to learn what the rules are so that I do not offend anyone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3"/>
          <a:stretch/>
        </p:blipFill>
        <p:spPr>
          <a:xfrm>
            <a:off x="3200400" y="4267080"/>
            <a:ext cx="3025800" cy="218772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Listen to Other Group Members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026960" y="1598760"/>
            <a:ext cx="36226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When others are talking I am not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I listen to what others have to say respectfully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1243080" y="3102120"/>
            <a:ext cx="1666800" cy="14904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Express Ideas to Other Group Members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026960" y="1598760"/>
            <a:ext cx="36226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457200" y="2743200"/>
            <a:ext cx="4419720" cy="288756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Be Sensitive to Group Members Ideas and Views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slow" advTm="3000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Be Willing to Compromise if Necessary to Accomplish a Goal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263160" y="1598760"/>
            <a:ext cx="3622680" cy="449712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026960" y="1598760"/>
            <a:ext cx="36226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slow" advTm="3000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Be a Leader, or, Follower to Best Accomplish the Goal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263160" y="1598760"/>
            <a:ext cx="3622680" cy="217152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263160" y="3920760"/>
            <a:ext cx="3622680" cy="217476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4026960" y="1598760"/>
            <a:ext cx="3622680" cy="449712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Work in Changing Settings and With People of Differing Backgrounds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263520" y="1598760"/>
            <a:ext cx="7386480" cy="2171520"/>
          </a:xfrm>
          <a:prstGeom prst="rect">
            <a:avLst/>
          </a:prstGeom>
          <a:ln w="0">
            <a:noFill/>
          </a:ln>
        </p:spPr>
      </p:pic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63520" y="3920760"/>
            <a:ext cx="7386480" cy="21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slow" advTm="300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3T18:47:40Z</dcterms:created>
  <dc:creator>Administrator</dc:creator>
  <dc:description/>
  <dc:language>en-US</dc:language>
  <cp:lastModifiedBy>Administrator</cp:lastModifiedBy>
  <dcterms:modified xsi:type="dcterms:W3CDTF">2009-11-24T19:18:20Z</dcterms:modified>
  <cp:revision>10</cp:revision>
  <dc:subject/>
  <dc:title>TEAMWORK SKILLS</dc:title>
</cp:coreProperties>
</file>