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B37-BE02-4DA5-A7B9-C736C2A6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E0D-D8B2-422C-A63D-E75DFED4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A57-0669-4EE3-BE0C-DE7988F9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E2A-FD2A-4D5E-ADB4-29F906C2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FB23-3E7C-4B92-966A-926513E9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6EE0-30CB-4E3D-9817-A3E8ADF8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1B25-5805-499C-A17A-6C0B9630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D638-63DD-4F38-8AAA-538DBAB4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4596-E3DB-4CEB-8E63-8469FEEB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2DBF-3B58-4F81-8AB9-B193C343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8E2E-C0AF-4A93-A2F3-604DFCE5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61B-D7B1-4F90-A1F3-D8ABD860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D53C-028D-45F2-B5D7-C1D355C2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2291-0A97-4161-BEA1-4CAAEA85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7686-6F64-4944-A6DF-EDB943BC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F862-FC65-48BE-8EAB-71684E46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BAE7-6757-42D5-B92F-BF3DA5E0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4B3-6E2E-401A-9077-4EFD2CA2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565-9CB9-4515-9432-6631E6FF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A0E-2592-4303-8C52-C2DF916B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43B-0C5F-49B0-BDA6-B0C25B94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981-0E93-4465-888C-AA35621E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E01-36A3-48BF-8DE8-8614777A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DB6-6CD7-49D2-9102-502ADBA1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1397-A1F7-4391-9B04-BDE346EA9BE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8447-E3DE-48A3-85C7-BD7B42E3633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0b854"/>
                </a:solidFill>
                <a:uFillTx/>
                <a:latin typeface="Agency FB"/>
              </a:rPr>
              <a:t>TEAMWORK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kills Employers Want Today!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y: Suzanna Smilesal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027320" y="2063880"/>
            <a:ext cx="3622680" cy="3563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tively Participate in a Group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3920760"/>
            <a:ext cx="73864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mployers expect new hires to be able to work with people from diverse cultur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54240" y="1598760"/>
            <a:ext cx="1641240" cy="2171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67320" y="1598760"/>
            <a:ext cx="2538360" cy="2171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Know the Groups Rules and Valu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very organization has specific rules and expectations for their employe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 as new hire, I must take the time to learn what the rules are so that I do not offend anyon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200400" y="4267080"/>
            <a:ext cx="302580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isten to Other Group Memb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en others are talking I am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 listen to what others have to say respectful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243080" y="3102120"/>
            <a:ext cx="166680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xpress Ideas to Other Group Member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4419720" cy="2887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Sensitive to Group Members Ideas and View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Willing to Compromise if Necessary to Accomplish a Go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22680" cy="44971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a Leader, or, Follower to Best Accomplish the Go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22680" cy="2171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63160" y="3920760"/>
            <a:ext cx="3622680" cy="2174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026960" y="1598760"/>
            <a:ext cx="3622680" cy="4497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Work in Changing Settings and With People of Differing Background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21715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3920760"/>
            <a:ext cx="73864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47:40Z</dcterms:created>
  <dc:creator>Administrator</dc:creator>
  <dc:description/>
  <dc:language>en-US</dc:language>
  <cp:lastModifiedBy>Administrator</cp:lastModifiedBy>
  <dcterms:modified xsi:type="dcterms:W3CDTF">2009-11-24T19:18:20Z</dcterms:modified>
  <cp:revision>10</cp:revision>
  <dc:subject/>
  <dc:title>TEAMWORK SKILLS</dc:title>
</cp:coreProperties>
</file>